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711-66B9-47A0-8AC2-25B880C2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BED-77C0-4B8C-BFFB-06FC7FC3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2AB-15F3-467B-A616-427D41C9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E51-072E-4B2C-9964-547B2CBD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FED32-98C3-450D-9B54-8A9ACB93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24F9E-DD69-4796-B39C-C5C0AF73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85F2E-A47F-4147-9E0C-65D8A85D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51E6D-5542-4DE2-8ACB-816BA0A9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FC1F9-4584-4311-AFED-8281859A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3B96A-90D6-4761-A704-23CAA5E4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74FBB-D701-4F33-AA84-92F4A9EB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CDA-9968-4370-A3A6-708A7A54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FE02D-5704-46C3-987D-6A2D8EA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58CC9-60E4-4694-8A2A-3051C05B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B3CDD-5074-4725-96A5-C82D84E6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F9010-83A0-4F23-9C65-BEC03DBA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7096F-6A4C-4614-8714-C6F2E550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512-8286-41C2-8FCE-2D5B1021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9C1-15C2-4C09-92EB-20B2DCC7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FC6-AF46-48A0-8C0C-AFCDD30E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FF5-8ECE-4310-9E92-F4A88A03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071-AB5E-4EE0-A6AE-BF243F0F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D2E-AFF0-420B-9175-5E36E93D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605-9B89-45EE-A3A8-BE719882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6080-3F62-4917-B8D2-4AEFF25B4A5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330099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F5E3-BB7A-4889-84C1-E0435EF8A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6993-4EF6-445C-81C5-F99122B21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0076-33E6-4744-89DC-8FE231834B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Font typeface="Wingdings 2" charset="2"/>
              <a:buChar char="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330099"/>
              </a:buClr>
              <a:buSzPct val="95000"/>
              <a:buFont typeface="Wingdings 2" charset="2"/>
              <a:buChar char="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7880" y="76320"/>
            <a:ext cx="6867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17880" y="1302840"/>
            <a:ext cx="6867360" cy="4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or Class Ori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17880" y="4638600"/>
            <a:ext cx="6867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hool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17880" y="5425920"/>
            <a:ext cx="686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er’s Name,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68B86F6-5503-4A42-80B4-A1A207B4CA86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da/Topics to be Cove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/Class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’s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/Classroom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486B5-4858-4DCC-928F-CCCA0980E496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/Classroom V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 vision and charter/miss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pecial curricula or offe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y take more than on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9A088-3D84-4F14-A1FE-0A601BFF3059}" type="datetime1">
              <a:rPr lang="en-US"/>
              <a:t>07/30/26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’s W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key school staff (principal, libraria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rganization chart might be effectiv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21822-FF57-4E50-9258-86173D6338BC}" type="datetime1">
              <a:rPr lang="en-US"/>
              <a:t>07/30/26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/Classroom Poli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 most important policies an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school hours and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about expectations of students, teachers,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school handbook o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y take more than on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D8CB6-4FE3-4422-B6C1-3CCD8D9B5878}" type="datetime1">
              <a:rPr lang="en-US"/>
              <a:t>07/30/26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ding/Con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of 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and timing of grades and parent 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 the grading/homework/conferenc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and review the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589E5-A677-4E3B-AC60-4B9E33F2A423}" type="datetime1">
              <a:rPr lang="en-US"/>
              <a:t>07/30/26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Resou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 Hand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olicy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name/phone for each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2F167-090D-4B2F-A4BA-973F8806C648}" type="datetime1">
              <a:rPr lang="en-US"/>
              <a:t>07/30/26</a:t>
            </a:fld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topics 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terate 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020A4-631A-4CE4-8EBF-81B413086DD3}" type="datetime1">
              <a:rPr lang="en-US"/>
              <a:t>07/30/26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3:23:26Z</dcterms:created>
  <dc:creator>jeanne butcher</dc:creator>
  <dc:description/>
  <dc:language>en-US</dc:language>
  <cp:lastModifiedBy>jeanne butcher</cp:lastModifiedBy>
  <cp:lastPrinted>1996-03-19T21:02:48Z</cp:lastPrinted>
  <dcterms:modified xsi:type="dcterms:W3CDTF">2007-07-14T03:24:04Z</dcterms:modified>
  <cp:revision>1</cp:revision>
  <dc:subject/>
  <dc:title>Welcome!</dc:title>
</cp:coreProperties>
</file>